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arrow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262-321B-48D8-83CC-4095C0D6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F12-D4FB-46D2-99E3-2FB8C2E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9B9-94CC-4157-ACBD-1DD91DE1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521-E0CE-4F0F-894F-46CC3CD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8B3B-AA0C-4BF5-8945-48CA898C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25E-543F-4F97-8A33-606A30C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C2B7-3251-4A92-915B-536F62E6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9914-1FBE-490A-8091-7005D37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9CFE-E9CE-439F-BD8F-964E71A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96CF-74F1-4333-A4DE-97B69A86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7F20-C0E9-4219-BB76-9CEA3AA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7C2-E42B-4C92-95D4-4D0BCD9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DB89-0BF5-4567-96D3-83B9882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DEE-E9D0-40B0-9C2A-C24690B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2F9-5A34-4DAD-902F-5528A42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2C9-86FA-4EBF-B0DB-CD8AA25D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E16-DBA8-49F2-8081-1FD4D555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C17-B6D5-49CC-A16E-A6942644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B69-1641-4AC2-BB02-9F5F43D5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13E-CD44-4A8D-933C-CA452BC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C8E-DA6E-4E7B-A15C-DE0C809B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6FF-440E-4C60-81BC-86C8CA41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EE0-D6D3-4D06-A0BC-72BD6416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0E3-3D5E-4C1C-A5AB-C296B51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41C-8B67-4823-A245-0483F59C77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470-17C2-425F-ADAF-66AEFC88114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</a:t>
            </a:r>
            <a:r>
              <a:rPr b="0" lang="el-GR" sz="4400" spc="-1" strike="noStrike">
                <a:solidFill>
                  <a:srgbClr val="ffff99"/>
                </a:solidFill>
                <a:latin typeface="Arial"/>
              </a:rPr>
              <a:t>εφάλαιο 9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Ενότητα 4</a:t>
            </a:r>
            <a:r>
              <a:rPr b="0" lang="el-GR" sz="3200" spc="-1" strike="noStrike" baseline="30000">
                <a:solidFill>
                  <a:srgbClr val="ffffff"/>
                </a:solidFill>
                <a:latin typeface="Verdana"/>
              </a:rPr>
              <a:t>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Επιμέλεια:Κωστάκη Νεκταρί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Γενικό Λύκειο Μακρύ Γιαλο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Ας συζητήσουμε λοιπόν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Πόσο ρεαλιστική είναι η απαίτηση για πλήρη απόρριψη των δυτικών αξιώ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Για το ότι κάποιοι θεωρούν ανθρωποκεντρισμό το να μη νοιάζεται ο άνθρωπος για τα ζώ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Το ότι κάποιοι τονίζουν ότι λύση είναι η «ανθρωποποίηση» της φύση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</a:rPr>
              <a:t>Ας δούμε,τέλος,και έξω από το σχολικο βιβλίο μας, πώς βλέπει η Ορθοδοξία το περιβάλλον (Αυτή είναι η δική μας παράδοση …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Τέλο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Το οικολογικό πρόβλημα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Η εμφάνιση του φαινομένου του θερμοκηπίο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Η ρύπανση του περιβάλλοντο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Η συνεχής εξαφάνιση φυτικών και ζωικών ειδώ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Η καταστροφή του όζοντο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Η σταδιακή εξάντληση των φυσικών πόρω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Επιβάλλεται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Να χαράξουμε νέα πολιτική για το περιβάλλο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Να αλλάξουμε το αξιολογικό μας σύστημα αλλά και συνολικά τη στάση ζωής μας σε σχέση με τη φύσ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99"/>
                </a:solidFill>
                <a:latin typeface="Arial"/>
              </a:rPr>
              <a:t>Η συνειδητοποίηση του προβλήματος έγινε αργα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Διότι τα περιβαλλοντικά προβλήματα ήταν μόνο τοπικά και όχι γενικευμέν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Δεν είχαμε συνειδητοποιήσει ότι ο άνθρωπος είναι μέρος της φύση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Δεν περιμέναμε τόσο έντονη και συστηματική διατάραξη της οικολογικής ισορροπία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Υπάρχουν διαφωνίες σήμερα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Για την έκταση του προβλήματος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Για τον τρόπο με τον οποίο θα επεξεργαστούμε μια νέα πολιτική σε σχέση με το περιβάλλον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99"/>
                </a:solidFill>
                <a:latin typeface="Arial"/>
              </a:rPr>
              <a:t>Κατά το νορβηγό φιλόσοφο Νάε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Μπορούμε να μιλήσουμε για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Ρηχή οικολογία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Βαθιά οικολογία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Η ρηχή οικολογία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Μιλάει για μείωση της ρύπανση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Συγκράτηση της αύξησης του πληθυσμο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Συντηρητική εκμετάλλευση των φυσικών πόρω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Προστασία των έμβιων όντω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Άρα βλέπει τη λύση σε  διορθωτικές κινήσεις μέσα στο υπάρχον μοντέλο ζωή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Η βαθιά οικολογία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ητά μια νέα φιλοσοφία, μεταφυσική και ηθική στις σχέσεις ανθρώπου –φύση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λλαγή του κοινωνικοοικονομικού μας συστήματο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Πιστεύει ότι η οικονομία «δυτικού»τύπου δεν μπορεί να αντιμετωπισει δραστικά το πρόβλημ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Ενδιαφέρουσες τάσεις βαθιάς οικολογία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Η στροφή σε προβιομηχανικά και μη δυτικά πρότυπα (επιστροφή στον ανορθολογισμό , μυστικισμό, πρωτογονισμό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Η φεμινιστική τάση (Να στραφούμε σε αξίες όπως η φροντίδα, η αγάπη , η ευαισθησία που θεωρούνται γυναικεία χαρίσματα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{ Επιδέχονται και οι δύο  πολλή συζήτηση…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7:13:31Z</dcterms:created>
  <dc:creator>MG</dc:creator>
  <dc:description/>
  <dc:language>en-US</dc:language>
  <cp:lastModifiedBy>Βασϊλης</cp:lastModifiedBy>
  <dcterms:modified xsi:type="dcterms:W3CDTF">2010-01-30T10:01:50Z</dcterms:modified>
  <cp:revision>4</cp:revision>
  <dc:subject/>
  <dc:title>Kεφάλαιο 9</dc:title>
</cp:coreProperties>
</file>