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breez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E9D-1DEC-47FB-A319-61073FFE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707-C88A-49BF-992B-C4A2B046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23E-E135-46BA-BFEF-7CC92633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2BF-ECE6-4B7C-8817-B29C6698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8D93-38F9-455F-A691-4939816D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EAAE-6DBC-4C94-B795-1DEE22EB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2416-4251-4280-9AEA-AEAA6FDD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C220-46B7-4A45-8DC3-6B7F3446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E00A-71C6-4FAF-85E1-4BC51B20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D880-E65A-4994-BC24-9CBFB9ED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7250-FE59-402B-897F-6014D61D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43D-5848-47FD-8531-AA970D3D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F4DD-8BFE-4F0E-82EF-E15B6760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F5E2-0766-480B-B9CB-C7BD4A01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3172-29B4-467F-8711-DA0CB6C3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C6FE-D62D-42D3-A458-B187ED4E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2F82-B1AD-41FF-AB02-44616A3C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418-F177-43B8-8139-0C30EB2F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4FB-7DBF-4C9C-88D7-59F794C6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B2A1-02A6-4245-9ABF-D62F12DF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637-8754-42CA-A0AF-3FF1D636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51C-B1BF-44D2-A1E4-662A936D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707-CF5C-46A4-9DA9-68B2701A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E6D-1322-4295-83A1-E033674C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8B70-0D67-4015-B2AF-943CAD9825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2330-45D1-45F0-AC96-354360E536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Κεφάλαιο 9 , ενότητα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ολιτισμός και αξί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πιμέλεια:Κωστάκη Νεκταρία  ΓΕΛ Μακρύ Γιαλο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Ας προβληματιστούμε.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ρέπει να μιλάμε για πολιτισμούς πρωτόγονου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ότε κατηγοριοποιούμε τους πολιτισμούς σε ανώτερους και κατώτερου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ώς κατανοούμε την πολυπλοκότητα των πολιτισμώ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Να λάβουμε υπόψη μας την τακτική της αποικιοκρατίας σε σχέση με αυτό το θέμα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Πρέπει να μιλάμε για πολιτισμό εν γένει ή για επιμέρους πολιτισμούς;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ς σκεφτούμε πώς αλλά και κατά πόσο  κατανοούμε τον πολιτισμό των άλλω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όσο και σε τι βοηθάει η σύγκριση των πολιτισμώ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ώς υπάρχει κίνδυνος να καταλήξουμε σε έναν ακραίο σχετικισμ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Ας προβληματιστούμε…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ίναι οι πολιτισμοί αυτόνομοι ή είναι αλληλοεξαρτώμενο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ξελίσσοντα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μορφώνοντα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Δώστε δικά σας παραδείγμα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228240"/>
            <a:ext cx="685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Υπάρχουν πολιτισμοί ανώτεροι;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πιβάλλονται κάποιοι πολιτισμοί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 ποιους τρόπους γίνεται αυτ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Θεωρούν οι άνθρωποι που μετέχουν σε έναν πολιτισμό ανώτερο κάποιον άλλο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Δικαιολογείται αυτ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ιστεύετε ότι υπάρχουν κάποια όρια σε αυτά που συζητάμ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Υπήρχαν παλιά πολιτισμικές κοινωνίες; Σήμερα;.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ώστε παραδείγματα δικά σας αν υπήρχαν παλι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άτω από ποιες συνθήκες γινόταν αυτ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ώς εξηγούμε σήμερα την πολυπολιτισμικότητα των κοινωνιών μ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οιες οικουμενικές αξίες εξασφαλίζουν αρμονία σε αυτέ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63280" y="228600"/>
            <a:ext cx="738036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Ας προβληματιστούμε για το τρίπτυχο: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άνθρωπος-πολιτισμός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και ιστορία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56000" y="2204640"/>
            <a:ext cx="6400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πολιτισμοί δεν είναι στάσιμο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λαοί έχουν το παρελθόν , το παρόν τους και το μέλλο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ίναι λοιπόν ο άνθρωπος από τη φύση του «ιστορικό ο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όση δυναμικότητα βρίσκουμε σε αυτήν την απόφανσ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52:37Z</dcterms:created>
  <dc:creator>MG</dc:creator>
  <dc:description/>
  <dc:language>en-US</dc:language>
  <cp:lastModifiedBy>Βασϊλης</cp:lastModifiedBy>
  <dcterms:modified xsi:type="dcterms:W3CDTF">2010-01-30T10:04:23Z</dcterms:modified>
  <cp:revision>3</cp:revision>
  <dc:subject/>
  <dc:title>Κεφάλαιο 9 , ενότητα 2</dc:title>
</cp:coreProperties>
</file>