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D4DB-4DEA-4449-A18B-C10C2AFE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3B6-D595-496F-84CC-264486CD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725-D8A6-40DB-A8DA-21B6D02C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832-A5EB-4883-8314-AE8BF141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5B1-CAD8-47FC-A4B1-42246E7C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E448-09DC-4E4E-AE65-188E084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09B4-CDF6-49D7-AB0B-C922E4F7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5457-0D3E-454B-B6DD-6147BFC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A0E8-BED6-4CBE-AB23-64A7C3F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52F3-D3DB-4EAE-82C7-A9B1E8DF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E806-E9FB-4A92-99BA-A01E1E95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19F-E1C9-42B3-B0E1-24250C53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AA19-E411-474C-B5E9-09D280C8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F850-2814-4839-872B-4C2D3FF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E24A-EBCB-4A16-B1B0-83E0F7F2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70F0-1E90-4488-87E7-5CC07389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FEB2-1082-42DC-A6BC-5A5D32DD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248-9126-4CD7-B302-0672B18C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7F0-25B3-48D8-8054-DDF0337D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D7D-454B-4A2D-814A-41F9D47E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B33-9633-4A0B-8868-4877EF73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53E-0476-46CF-8791-367B2942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27A-0CCE-46D5-82B6-A8EABD18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673-D68D-429B-A491-6968FB88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56D5-EC77-4985-B05D-E492C7F167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329E-3844-43D8-A4B7-8E7686614D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5400" spc="-1" strike="noStrike">
                <a:solidFill>
                  <a:srgbClr val="000000"/>
                </a:solidFill>
                <a:latin typeface="Arial"/>
              </a:rPr>
              <a:t>έχνη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νότητα 2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Η τέχνη ως μίμηση ή αναπαράσταση της φύσης και της ζωής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10920" y="1844280"/>
            <a:ext cx="64278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Άποψη του Πλάτων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του Αριστοτέλ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Άποψη που παρατηρείται από την Αναγέννηση μέχρι το κίνημα του ρεαλισμ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Άποψη που επιδέχεται πολλή συζήτηση καθώς υπάρχουν πολλές όψεις της πραγματικότητ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Ρεαλισμό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Στη λογοτεχνική τεχνοτροπία αναπαριστά πιστά την πραγματικότητα χωρίς εξιδανικεύσει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Στη φιλοσοφία δέχεται ότι ένα είδος αντικειμένου/ιδιότητας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τάστασης υπάρχει πραγματικά ή μια μόνο απόφανση είναι αληθής ή ψευδή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Η τέχνη ως αποκάλυψη μιας βαθύτερης πραγματικότητα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Άποψη που εμπεριέχει έναν μυστικισμ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ουσιάζεται στη θρησκευτική τέχνη ιδιαίτε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ατηρείται έντονα στη Βυζαντινή τέχν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α καλλιτεχνήματα της βυζαντινής περιόδου χαρακτηρίζονται από επιβλητικότητα και έντονη πνευματική σχέση ανθρώπου και Θε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Η τέχνη ως έκφραση των συναισθημάτων του δημιουργού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Στη σύγχρονη εποχή τονίζεται ότι η τέχνη ελευθερώνει από τη λογική και εκφράζει συναισθήματ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λλιεργήθηκε κυρίως από το Ρομαντισμό στα τέλη του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αιών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πιδιώκεται τα έργα τέχνης να είναι αισθαντ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εν ενδιαφέρει μόνο το ωραίο αλλά και το υψηλό , το υπέροχο που πιθανώς μας προκαλεί δέ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Ρομαντισμό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λιτεχνικό κίνημα του 18</a:t>
            </a:r>
            <a:r>
              <a:rPr b="0" lang="el-GR" sz="2800" spc="-1" strike="noStrike" baseline="30000">
                <a:solidFill>
                  <a:srgbClr val="000000"/>
                </a:solidFill>
                <a:latin typeface="Arial"/>
              </a:rPr>
              <a:t>ου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υριάρχησε σε όλη την Ευρώπ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ό αντίδραση στο Διαφωτισμ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 ρομαντικοί καλλιτέχν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πέλεξαν την απομάκρυνση απ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ις παραδοσιακές νόρμες κα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μιούργησαν έργο με έντονο το συναισθηματικό στοιχείο. Πηγή έμπνευσης η φύση και το μυθικό -ιστορικό παρελθό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Η τέχνη ως ελεύθερο παιχνίδι της φαντασία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Φαντασία είναι η δύναμη του νου που μας επιτρέπει να δημιουργούμε καινούρια πράγματ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εν αναιρεί την πειθαρχία σε κανόν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Η τέχνη αντιμετωπίζεται ως αυτόνομη δραστηρι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Ο Καντ λέει πως η τέχνη είναι μια σκοπιμότητα χωρίς σκοπό , η αξία της βρίσκεται στην αυτονόμησή τ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άποιοι υποστηρίζουν «την τέχνη για την τέχν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Η μοντέρνα τέχνη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μφισβητεί την απεικόνιση της πραγματικότητας στη ζωγραφική και τη γλυπτικ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νει υπερβάσεις στη λογοτεχν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ερβαίνει την παραδοσιακή αρμονία στη μουσικ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δυάζει επιμέρους είδη τέχ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Χαρακτηρίζεται από αυτό-αναφορικότητα, δηλαδή διαλέγει θέμα της τον ίδιο της τον εαυτ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ποιοι μιλούν για το τέλος της τέχνης , φυσικά με κάποια υπερβολ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Επιμέλεια : Κωστάκη Νεκταρί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9:06:42Z</dcterms:created>
  <dc:creator>MG</dc:creator>
  <dc:description/>
  <dc:language>en-US</dc:language>
  <cp:lastModifiedBy>Βασϊλης</cp:lastModifiedBy>
  <dcterms:modified xsi:type="dcterms:W3CDTF">2010-01-30T10:02:42Z</dcterms:modified>
  <cp:revision>5</cp:revision>
  <dc:subject/>
  <dc:title>Tέχνη </dc:title>
</cp:coreProperties>
</file>