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ABC-1A3D-48CB-835B-A01A0802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61A-6897-4D22-BF41-FED61CF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877-7CB2-4F8D-8B44-B01A84C9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1BA-64DE-4D4B-94BE-0B21FEE3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514-CB8C-4E0D-A750-AD01201C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F47F-8C8D-4A58-ACD3-5C1B008D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BFC2-88D8-477B-9155-97E8D6C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7F1-EAED-46A4-9DE3-8193533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F873-41D6-4DF2-9FFA-11936DD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B58C-FA67-4277-A4FE-AAA4CC4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37C-AD6F-410E-B0F9-8ABCC07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B64-1CEE-4912-AD41-0C1D6D12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DE2-5A82-4026-ACB5-C0AEE3F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A800-A627-4B15-8C19-64A30BE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DEE6-FD6F-4453-9AE3-0258472F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6CE3-F666-43FB-9C08-D4A1CE10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A43-8424-4FB8-A0BB-20E07AFA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2FE-2F62-448F-B7D6-5AEEB0B2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1D9-C79F-42E2-AF46-A33D2B7F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A6F-2864-4BD0-B183-718BCF9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9EE-6A21-436D-9CFE-1E3F77AA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A0F-800E-4709-BB80-FE20739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BC4-EA5F-4654-B97C-AFE85DF4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7D8-0373-4053-9ABF-A50893E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3EC1-95D4-417B-9CAB-A5EBA8E013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82E-38A5-4DBE-A02E-ADD81A7A04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Θαυμάζοντας το ωραίο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Κεφάλαιο 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Φύση , τέχνη και αισθητική εμπειρί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Ας προβληματιστούμε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Τι εννοούμε όταν λέμε σήμερα «αισθητική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Έχουμε ακούσει τον όρο «αισθητική» με έννοια φιλοσοφική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Πού υπάρχουν τα αντικείμενα της αισθητικής εμπειρία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Τι είναι τελικά το ωραίο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Τι είναι τέχνη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Υπάρχει πρακτικότητα στα έργα τέχνη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Comic Sans MS"/>
              </a:rPr>
              <a:t>Ας διευκρινήσουμε κάποιους όρους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την καθημερινή ζωή αισθητική λέμε την καλαισθησία-την αντίληψη του ωραίου μέσω των αισθήσεών μα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την φιλοσοφία υπάρχει ως κλάδος και προσπαθεί να ανακαλύψει τους παράγοντες που κάνουν κάτι ωραίο (να έχουμε τέτοια αντίληψη γι’ αυτό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M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λετά και το συναίσθημα το αντίστοιχο που βιώνουμε μπροστά στο ωραί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Πού υπάρχουν τα αντικείμενα της αισθητικής εμπειρίας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Άλλοι αναφέρουν ότι μπορεί κανείς να τα βρει στη φύση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Άλλοι λένε πως τα αισθητικά πρότυπα δημιουργούνται από την τέχν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Πάντως δεχόμαστε όλοι ότι η αισθητική εμπειρία σχετίζεται με την ανθρώπινη καλλιτεχνική δημιουργί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Στη διαμόρφωση του ωραίο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Προηγείται η σύλληψη  του έργου τέχνης που ίσως γίνεται με την έμπνευση από τη φύσ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Ενδιαφέρει το ίδιο το έργο τέχνης με τα γνωρίσματά το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Και βέβαια «μετρούν» οι αντιδράσεις του κοινού που προσεγγίζει το έργ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Υπάρχει υποκειμενικά ή αντικειμενικά ωραίο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Οι απόψεις διχάζοντα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Πάντως οι αισθητικές κρίσεις διαφέρουν από άτομο σε άτομ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Από εποχή σε εποχ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Από κοινωνία σε κοινωνί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Πολλοί πάντως προσδίδουν στο ωραίο διαχρονικότητα και οικουμενικότητ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Τέχνη είναι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Σήμερα η καλλιτεχνική δημιουργί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Παλαιότερα , στην αρχαιότητα, σήμαινε την απλή κατασκευή νέων αντικειμένω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Υπάρχει τέχνη που συνδυάζει και πρακτικότητ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Οι φιλόσοφοι την αποσυνδέουν όμως από κάθε πρακτικό σκοπό και διάστασ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Επιμέλεια:  Κωστάκη Νεκταρία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  <p:sndAc>
      <p:stSnd>
        <p:snd r:embed="rId1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01:10Z</dcterms:created>
  <dc:creator>MG</dc:creator>
  <dc:description/>
  <dc:language>en-US</dc:language>
  <cp:lastModifiedBy>Βασϊλης</cp:lastModifiedBy>
  <dcterms:modified xsi:type="dcterms:W3CDTF">2010-01-30T10:03:26Z</dcterms:modified>
  <cp:revision>4</cp:revision>
  <dc:subject/>
  <dc:title>Θαυμάζοντας το ωραίο</dc:title>
</cp:coreProperties>
</file>